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126-187D-463E-A587-3F4D83C9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F7A-1398-471D-91D5-6A0A055E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252-271F-4FB1-A935-F203C534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008-F632-46BF-ABE7-8E0BE398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08A-5F4F-47B7-80FF-84167D25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A78-7702-49FA-874D-540B16A1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79F-15C8-4898-9503-1A7BE282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C63-C0E4-4BA3-A6E6-AA4CAA7F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E2E-D4CD-4D8B-8E70-194CB4F3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B14-9238-4142-9E6F-7BF2BFB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9C1-5245-4F8C-933E-67E3034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C63-59E4-4121-8A08-9954796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675B-B006-4B3E-9BA6-D452604B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1357200" cy="18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5146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243080" cy="181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858000" y="4419720"/>
            <a:ext cx="2165400" cy="213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162920" y="2514600"/>
            <a:ext cx="1600200" cy="181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066680" y="5943600"/>
            <a:ext cx="570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Heavy Heap"/>
              </a:rPr>
              <a:t>RECYCLE 2 HELP THE PLANET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Heavy Heap"/>
              <a:ea typeface="Heavy Heap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304920"/>
            <a:ext cx="2514600" cy="64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avy Heap"/>
              </a:rPr>
              <a:t>THE 5C RECYCLING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91440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Heavy Heap"/>
              </a:rPr>
              <a:t>RECYCLE WATER BOTTLES, MILK CARTONS, AND MUCH MORE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Heavy Heap"/>
              <a:ea typeface="Heavy Hea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46:05Z</dcterms:created>
  <dc:creator>mes5c</dc:creator>
  <dc:description/>
  <dc:language>en-US</dc:language>
  <cp:lastModifiedBy>mes5c</cp:lastModifiedBy>
  <dcterms:modified xsi:type="dcterms:W3CDTF">2011-02-03T13:15:36Z</dcterms:modified>
  <cp:revision>4</cp:revision>
  <dc:subject/>
  <dc:title>Slide 1</dc:title>
</cp:coreProperties>
</file>